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202-4CC8-4E8D-8451-F873A45E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A2F1-99F3-4261-BE88-1FD7E62C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85C-721B-445C-A09D-A702C6DE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B14-F5B4-4311-B005-1E2EAFA1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C963-32E3-44A7-81B1-B8748C5B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4602-62CF-4BDB-A7F1-E56E7D38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685A-4172-4ABE-933C-4B5C176E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B677-C748-4D33-9D84-78AD603F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E555-9363-4835-A852-5E55091E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5023-6EFF-4AE0-969C-C831D129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7384-0463-418D-9D3B-F3AAA6B7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1CC0-8875-4112-B0B9-F35421EA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64E7-1B6D-4AD7-8574-9DB65089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D41D-6640-4BA7-8A19-F15CF39A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7801-F033-4D89-A97F-BBCA301A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7716-BD92-495B-A5F2-26A81825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4F63-6C50-4FB9-8897-7F4C1004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9BF0D-9CC0-45F8-9F60-AFF5E772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3E1C0-8D27-4BC4-A967-0515B2AE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0EB6-FC73-4833-A009-035D4F7D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20BDE-CFB6-4E70-BB45-ACA63FFB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1A55D-94E9-4729-9898-2925B770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CB3C-4A76-4DAC-B0E1-F5413ACE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7C82D-7C09-4F14-AC8E-CA4C0E4C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A495D-29C9-4588-AF2E-05CCAFB6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64C17-25C1-422D-AFC1-5BC2FD28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403DD-8198-4D6A-BF22-2DB27E06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82A4F-83CB-4E3A-B864-0EB44A23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F437D-9E85-4EF1-A247-6384A70F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BFB91-6F21-432E-9027-8E45E43F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85DB-03AA-42F0-96A4-2D11547B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85F-B3FA-40EC-8A58-743EC67A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DAE-7650-4F80-9245-1EEA8C33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6CD-5D63-4E4D-ADBA-876301E3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7000-ECC5-47DD-8B9A-48B4AE8F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00CE-A109-4865-A913-9B2AFCC5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fld id="{5DCF9130-33FD-4CFA-A46A-AFD612D59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            </a:t>
            </a:r>
            <a:fld id="{065018D2-1877-4A2B-91F5-BD53573E60F6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92C8-199B-4283-8570-56B78DDD38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 Clase 7IL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0 de enero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1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repasamos Ser y Est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un compañero, 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6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55. 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escriban un dialogo de minimo 15 linea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3DE7-3770-4601-8223-86BCF2E9BFE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cc00"/>
                </a:solidFill>
                <a:uFillTx/>
                <a:latin typeface="Comic Sans MS"/>
              </a:rPr>
              <a:t>Las Característica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Y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muy alto y delgad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armen y Pabl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jóven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sta clas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burrid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276720" y="4602240"/>
            <a:ext cx="2590560" cy="206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546-1C89-4D26-B65A-77187A2579AB}" type="slidenum">
              <a:t>10</a:t>
            </a:fld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Hora y la fecha</a:t>
            </a:r>
            <a:r>
              <a:rPr b="0" i="1" lang="en-US" sz="72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¿Qué hor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as tres de la tard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Hoy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l 17 de febrer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252960" y="4513320"/>
            <a:ext cx="2636640" cy="234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2FB-EECB-4381-BF0D-D371DC9CD480}" type="slidenum">
              <a:t>11</a:t>
            </a:fld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Un Evento</a:t>
            </a:r>
            <a:r>
              <a:rPr b="0" i="1" lang="en-US" sz="72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 clas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 las och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 fiest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os conciert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el parqu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276720" y="4343400"/>
            <a:ext cx="2514600" cy="24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5224-F879-49E6-B697-A311E096C118}" type="slidenum">
              <a:t>12</a:t>
            </a:fld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cc00"/>
                </a:solidFill>
                <a:uFillTx/>
                <a:latin typeface="Comic Sans MS"/>
              </a:rPr>
              <a:t>La preposición “de”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Possessi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Marí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33526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Material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pupitr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metal y plástic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503520" y="4952880"/>
            <a:ext cx="2135160" cy="173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8456-4D7C-4806-99F1-3510AC13155E}" type="slidenum">
              <a:t>13</a:t>
            </a:fld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2872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localizació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condicione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opinione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BA0-480F-4C1C-AB3F-D5DFC6311EF9}" type="slidenum">
              <a:t>14</a:t>
            </a:fld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Localizació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drid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Españ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is libr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¿Dónd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i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vosotros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333600" y="4730760"/>
            <a:ext cx="2475000" cy="21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CF8-09B5-4BD7-AFA0-166864BC57E0}" type="slidenum">
              <a:t>15</a:t>
            </a:fld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s Condicione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teléfon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ibre ahor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rcos y Elen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nervioso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teo siempr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content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505320" y="4495680"/>
            <a:ext cx="216360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40A-7F58-4008-BAB5-B65BAB0CA160}" type="slidenum">
              <a:t>16</a:t>
            </a:fld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2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7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2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s Opinione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u herman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bonita hoy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pescad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muy buen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Sr. Sanchez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joven cuando juega al fútbol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914400" y="4495680"/>
            <a:ext cx="201600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963-3164-4D96-8025-79F507586E80}" type="slidenum">
              <a:t>17</a:t>
            </a:fld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4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9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rar el DVD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Gramática en vivo: Ser y 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Actividades 1 y 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n el 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tus compañeros de mesa, complet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Hablar 1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. 66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criban sus descripciones en sus cuader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jercicio 1-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. 67-68 (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358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Tarea # 31</a:t>
            </a:r>
            <a:endParaRPr b="0" lang="en-US" sz="4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81E97-35ED-47B9-9B7D-15F113A4F7B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l Proposito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. 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Él ____ muy simpático pero hoy no _____ muy cont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 nervioso(a) porque mañana tengo un examen muy difíc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 inteligentes y vamos a recibir una nota bu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iudad de Lima ______ en Per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abuelos de Francisco _____ de Galicia pero ahora ellos ____ en Estados Unidos. Galicia ______ en el norte de Españ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71120" y="18288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6894720" y="18288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tá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1829880" y="28195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toy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2668680" y="37339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somos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4380120" y="4648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tá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son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3659400" y="56386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tán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2534040" y="60199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tá 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3D59E-90DC-4EFD-98DD-D0418E6BA9DA}" type="slidenum">
              <a:t>19</a:t>
            </a:fld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la Tarea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ORKBOOK p.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selmo (1)_______ hondureño. Él (2)______ de San Pedro Sula. San Pedro Sula (3)______ una ciudad importante de Honduras.  Pero ahora Anselmo no (4)_______ en Honduras.  Él (5)______ en Estados Unidos.  La vida de Anselmo no (6)____ muy fácil.  Él trabaja mucho pero (7)______ bastante contento porque (8)______ gusta su trabajo y (9)______ paga bastante bien.  Pero no hay duda, a veces Anselmo (10)______ triste porque quiere ver a su familia.  Su familia no (11)_______ en Estados Unidos.  Su esposa y sus hijos (12)_______ en Honduras.  Anselmo (13)_____ habla con frecuencia por teléfono y él (14)_____ manda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sends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in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66400" y="14479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7081200" y="14479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6782760" y="18288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3195360" y="2666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tá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7843680" y="2666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tá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8148240" y="30481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6554520" y="33526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tá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4038840" y="37339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le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1295640" y="41911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le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3963600" y="4572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tá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5819400" y="4952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tá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6505200" y="53341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tán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4786920" y="57150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les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963600" y="6095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les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1E021-13F9-4DF5-ADA5-51EE8564697D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024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l Proposito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e habla el med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e exami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e receta un medica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en te vende los medicamen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e da una caja de pastill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11880" y="205740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Si, me habla el medico.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914040" y="312408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Si, me examina.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914040" y="4191120"/>
            <a:ext cx="46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Si, me receta un medicamento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990720" y="5334120"/>
            <a:ext cx="67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l farmacéutico me vende los medicamentos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987480" y="6248520"/>
            <a:ext cx="47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Si, me da una caja de pastillas.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C4FC0-678B-4F14-BB94-B485406A4302}" type="slidenum">
              <a:t>20</a:t>
            </a:fld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06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l Proposito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3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Aquí tienes una car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en (1)_____ escri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los (2)_____ escri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h s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, (3)____ invita a una fi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(4)______ invita a una fies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, Carlos siempre (5)______ invita cuando tiene una fi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95840" y="236232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me/te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820600" y="289548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te/me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1906200" y="41148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me/te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1831320" y="46483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te/me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4953960" y="52578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me/te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49B64-7CB1-4C93-AB6C-B28FFD59B773}" type="slidenum">
              <a:t>21</a:t>
            </a:fld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l Proposito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.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¿El medico le habla a Ali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¿Y Alicia le habla al medi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¿Alicia le explica sus síntom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. ¿El medico le hace una diagno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. ¿Los médicos les dan una receta a sus pacien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6. ¿Los médicos les  despachan los medicamentos a sus pacien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4120" y="1752480"/>
            <a:ext cx="45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Si, el médico le habla a Alicia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833760" y="2590920"/>
            <a:ext cx="43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Si, Alicia le habla al médico.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795240" y="3429000"/>
            <a:ext cx="51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Si, Alicia le explica sus síntomas.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834120" y="4191120"/>
            <a:ext cx="54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Si, el médico le hace una diagnosis.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795600" y="5029200"/>
            <a:ext cx="75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Si, los médico les dan una receta a sus pacientes.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684720" y="6095880"/>
            <a:ext cx="81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No, los médicos no les despachan los medicamentos a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sus pacientes.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6CF24-1B48-48B0-97CD-76D91F96170C}" type="slidenum">
              <a:t>22</a:t>
            </a:fld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la Tarea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selmo tiene muchos amigos nuevos en Estados Unidos. Como él, muchos de sus amigos (15)______ de  Latinoamérica.  Todos (16)______ de países diferentes. ¿En que lengua (17)_____ habla Anselmo?  Él habla en español. Ahora Anselmo aprende el ingles.  Su curso de ingles (18)______ muy interesante pero según Anselmo el ingles (19)_____ muy difícil.  Pero él (20)______ contento porque quiere aprender ingles y según su profesor él (21)______ un alumno muy bu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96200" y="24382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son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1524600" y="28195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son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1524600" y="32767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les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2772360" y="4114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4573080" y="45720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162864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tá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6401880" y="54100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6B34A-942A-4FB2-A7C7-4C3E5E3D2EFA}" type="slidenum">
              <a:t>3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Ser y Estar</a:t>
            </a: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 en español…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47960" y="29714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Both verbs mean </a:t>
            </a:r>
            <a:r>
              <a:rPr b="0" i="1" lang="en-US" sz="2800" spc="-1" strike="noStrike">
                <a:solidFill>
                  <a:srgbClr val="f8f8f8"/>
                </a:solidFill>
                <a:latin typeface="Comic Sans MS"/>
              </a:rPr>
              <a:t>“to be”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Used in </a:t>
            </a:r>
            <a:r>
              <a:rPr b="0" i="1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very different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cas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Irregular conjugation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184400" y="2971800"/>
            <a:ext cx="281124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82C-B1F4-46F7-A035-AE70A7AD32D5}" type="slidenum">
              <a:t>4</a:t>
            </a:fld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¿Cuáles son las formas?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y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r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796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oy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a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a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2121120" y="236232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5767920" y="2362320"/>
            <a:ext cx="141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2B0-5BD8-4674-888C-F71F35F682C5}" type="slidenum">
              <a:t>5</a:t>
            </a:fld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¿Cuáles son los usos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de estos verbos?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847960" y="2286000"/>
            <a:ext cx="34466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323-32ED-4318-98CC-E8E5AA9EB772}" type="slidenum">
              <a:t>6</a:t>
            </a:fld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5639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el orige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identificació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característica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hora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un evento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possession, material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D682-34EA-4C4D-9E40-28DD966A9C95}" type="slidenum">
              <a:t>7</a:t>
            </a:fld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El Orige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Juan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Españ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Guatemal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is prim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Buenos Air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273480" y="4802040"/>
            <a:ext cx="2595600" cy="205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BF7D-2C8C-44A2-A5DC-85B4197CB54A}" type="slidenum">
              <a:t>8</a:t>
            </a:fld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Identificació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ú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r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a hermana de Pedr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Nosotr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mo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mericano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Sr. Ayal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profesor de español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652920" y="4572000"/>
            <a:ext cx="183816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6788-8B3B-4A70-A339-27295A497A03}" type="slidenum">
              <a:t>9</a:t>
            </a:fld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olseng</dc:creator>
  <dc:description/>
  <dc:language>en-US</dc:language>
  <cp:lastModifiedBy>Helen Zumaeta</cp:lastModifiedBy>
  <dcterms:modified xsi:type="dcterms:W3CDTF">2013-01-10T03:19:51Z</dcterms:modified>
  <cp:revision>86</cp:revision>
  <dc:subject/>
  <dc:title>Ser &amp; Estar</dc:title>
</cp:coreProperties>
</file>